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421-5D01-4727-A32F-822EB81B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919-1098-49B8-8121-3E4969ED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51F-4FD7-4DD3-89CE-93723430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12B-8152-4839-9918-5AAFC85B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3C5-3C43-4121-8372-1BA808AE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83F-D3C8-4961-A286-E27A8A71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A7D-52A2-4C36-9B1C-684CB997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4E0-4E74-43DF-8BF6-6CF6AB48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5A2-AC88-48DA-903E-C320FCC6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CD1-E09C-40F7-89D3-3B6E2CB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F5D-E7D7-45DE-9A96-FF6E4D9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C59-9822-4498-A589-7F972269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B92C-4A58-4455-9C90-7C3E70E0F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32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n insect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765000"/>
          <a:ext cx="8064360" cy="4253040"/>
        </p:xfrm>
        <a:graphic>
          <a:graphicData uri="http://schemas.openxmlformats.org/drawingml/2006/table">
            <a:tbl>
              <a:tblPr/>
              <a:tblGrid>
                <a:gridCol w="1224000"/>
                <a:gridCol w="865080"/>
                <a:gridCol w="863640"/>
                <a:gridCol w="863640"/>
                <a:gridCol w="865080"/>
                <a:gridCol w="1455840"/>
                <a:gridCol w="19270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c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wf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e t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ck in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f spi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0:27:33Z</dcterms:created>
  <dc:creator>dylan.iribarne</dc:creator>
  <dc:description/>
  <dc:language>en-US</dc:language>
  <cp:lastModifiedBy>dylan.iribarne</cp:lastModifiedBy>
  <dcterms:modified xsi:type="dcterms:W3CDTF">2009-06-16T00:34:17Z</dcterms:modified>
  <cp:revision>2</cp:revision>
  <dc:subject/>
  <dc:title>Australian insect survey</dc:title>
</cp:coreProperties>
</file>